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3B21-276E-4CEA-A53A-FD9446AF7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97E0-41B5-4AC1-A7F5-08939B437F53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62DE-4F59-46C1-B35F-CE3C68F9C4EF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B775-5357-4C30-B1F8-1BBF37AFEA7E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7CB4-EB1A-4AC0-AC88-BA5C7E271E22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DD84-59E8-4714-A6BA-AD3724A570C9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9346-FEE6-411D-8F86-103BAC6D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77E-A0DC-44F1-9341-2884732E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9B01-0FAE-4779-ACE6-452D1651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040D-4785-451C-AD88-75C31A0E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8814-2377-409B-BEAE-927CB61F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A5C7-34B1-4C7B-A43D-3A606C09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3517-D924-46C3-93AA-75E60F99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3BD6-62FC-44DA-AF30-5BEFCEB6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13EF-749B-4D56-B278-71153646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8047-796C-4174-9616-C96FD0C6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9BB0-06E7-4267-90DB-3F1C629C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F5A-2075-48C9-A9F1-F525E5B0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7B1C-B0BC-42D7-A0A9-84A887D3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78A2-7474-4385-92B3-B23E5BEE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3707-0A26-4C07-A7FC-6A2BF54D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CF2F-5134-4B6A-90CF-099FEDCA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31E2-A6B0-40F8-A3C0-5D098B43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E71-528C-4E54-896E-38C6AB14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A44-73AB-43B7-BC18-BE8B4D5B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BC5-F01A-4762-8D97-CC2A609A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710-6B17-4383-B25E-92DFD961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12C4-B5A2-41EB-8BF4-A34AAE04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4F2-42F7-42D3-9412-BC8FB54F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C612-F163-45CE-8A2F-F46D3980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5925960" cy="9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1C95-3531-4604-AEBE-592B10D7F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1404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FE3B-BEB8-49C8-9EED-367AC69E4134}" type="slidenum"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U.S. MINORITIES IN WWII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omen, African Americans,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Japanese Americans,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All American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NAVAJO CODE TALKERS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ERE ALL U.S. MARINES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USED EXCLUSIVELY IN THE PACIFIC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ALKED IN CODE, IN THE NAVAJO LANGUAGE TO OTHER NAVAJO’S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ODE WAS NEVER BROKEN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NISEI SOLDIERS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JAPANESE AMERICAN CITIZENS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AMILIES WERE IMPRISONED IN INTERNMENT CAMPS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RVED WITH DISTINCTION IN ITALY &amp; EUROPE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TUSKEGEE AIRMEN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ALL BLACK REGIMENT OF FIGHTER PILOTS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GREGATED FROM WHITE TROOPS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INCREDIBLE MILITARY RECORD OF SUCCESS. “RED TAILS”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HBO MOVIE 1996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AMERICAN WOMEN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ORKED IN THE ARMED FORCES (NOT DIRECTLY IN COMBAT)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ORKED IN ALL AREAS OF INDUSTRY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GAINED ECONOMIC &amp; SOCIAL INDEPENDENCE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02:19:03Z</dcterms:created>
  <dc:creator>Michael Tetzlaff</dc:creator>
  <dc:description/>
  <dc:language>en-US</dc:language>
  <cp:lastModifiedBy>Sacerdote, Kevin R.</cp:lastModifiedBy>
  <dcterms:modified xsi:type="dcterms:W3CDTF">2016-01-18T21:23:14Z</dcterms:modified>
  <cp:revision>1</cp:revision>
  <dc:subject/>
  <dc:title>U.S. MINORITIES IN WWII</dc:title>
</cp:coreProperties>
</file>